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2B58-382E-48EB-918F-7E9ACE8DF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CB75-2A14-4DFC-B967-912E875A3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7E8E-EBF5-4F38-9CCC-54CB40DA7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842C-C316-4F7F-AE4C-A61E3D25D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350D-A034-478A-8882-DF11477C1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19F2-9454-4D4B-92AA-616A933C1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B54E-E82A-4252-A8AE-01AC7FEA8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3B65-883B-4F13-A7C3-76D6DAFFB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6278-6B6C-4A39-A4EA-DE8D7E93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3EEB-B25B-4E23-BC07-F8B52C5A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9A80-884C-44D5-8B0F-300B1275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DBD8-4A4A-4C95-B223-ADEDB38F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44972-1204-49EA-AEE5-B3C2957BDA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ANALYSIS OF </a:t>
            </a:r>
            <a:br>
              <a:rPr sz="6000"/>
            </a:b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PAIR-MATCHED CASE-CONTROL DA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7467480" cy="2514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990720" y="3048120"/>
            <a:ext cx="74674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84836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19320" y="3352680"/>
            <a:ext cx="6705360" cy="1930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838080" y="1676520"/>
            <a:ext cx="71629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620120" cy="4470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838080" y="5181480"/>
            <a:ext cx="39625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848720" cy="28195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85800" y="3733920"/>
            <a:ext cx="77724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The Analysis of McNemar’s Table Involves Only the Discordant Pairs  </a:t>
            </a:r>
            <a:br>
              <a:rPr sz="3600"/>
            </a:b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X and 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78487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315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5438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96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6960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467840" cy="1295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914400" y="2590920"/>
            <a:ext cx="73915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78487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391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819520" y="4343400"/>
            <a:ext cx="3504960" cy="2057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914400" y="457200"/>
            <a:ext cx="7391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915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792504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46748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2-07-02T13:37:08Z</dcterms:modified>
  <cp:revision>82</cp:revision>
  <dc:subject/>
  <dc:title>The Art in the State of the Art</dc:title>
</cp:coreProperties>
</file>